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2C0-7816-4887-BBCB-611CB941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4F3-1543-4DD8-8D09-D7B126F3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F70-6F36-43B0-BCCA-30713340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337-573F-40B6-928B-B853C2EC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03C-1C49-4975-9599-0FF73FA5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469-5D08-455A-859F-6436C691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71F-1A60-418E-B79E-12F1FD04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B03-717A-47FE-95E0-4064A2DB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17F-E8DC-494B-B985-AA0E0A08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04D-4679-4744-BE11-51037D3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D3C-DF80-41C8-9176-40A9CD80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243-8CFF-4555-BBE2-6AC9832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5C25-AECF-4CA0-8514-FC9F1EDE6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llotrop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n Schwoe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rland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Orlando"/>
              </a:rPr>
              <a:t>Allotro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nt of a substance consisting of only one type of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er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</a:rPr>
              <a:t>Diam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d of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most jewe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fullerenes, which are allotropes found in carbon and carbon based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carbon bonds make up diam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rare and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3352680" cy="2541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ood conductor of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st stable form of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 most likely be described as a black and so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oms within graphite are arranged in “shee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picture to the below is showing graphite. It has a black color and smooth texture. To the right of that is the graphite atoms in “shee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66880" y="4167360"/>
            <a:ext cx="27432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ere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raphite or dia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erene’s density is half that of aluminu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dozens of spherical arrangement of carbon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is a picture of a fullerene. It shows the dozens of carbon atoms in a spherical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8680" y="3800520"/>
            <a:ext cx="30481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t relates to what we’ve studi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arrangement of atoms and density of materials as we have done in previous l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carbon, which is an element within the periodic table that we studied thoroughly. I.E. Our percentag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learned about the atom and all its components, which relates because all allotropes have different arrangements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monds- Mainly used in jewe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te- Used in 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erenes- Used/found in all carbon based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Ci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ce, Nigel, and Jim Hunt. “Allotropes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Science Cor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s.uoguel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26 Feb. 2009 &lt;http://physics.uoguelph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mistry in the Commu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2001. Ed. Henry Heikkinen. United States: Michelle Russel Julet, 198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llotrope?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Is an Allotrop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segeek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2003-2009. 26 Feb. 2009 &lt;http://www.wisegeek.com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stronger: a diamond or graph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ne use of graph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: Diamonds are used in most drills, when mining in the ground, due to their near indestruct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0:06:24Z</dcterms:created>
  <dc:creator>Justin Schwoerer</dc:creator>
  <dc:description/>
  <dc:language>en-US</dc:language>
  <cp:lastModifiedBy>Justin Schwoerer</cp:lastModifiedBy>
  <dcterms:modified xsi:type="dcterms:W3CDTF">2009-02-26T23:31:48Z</dcterms:modified>
  <cp:revision>11</cp:revision>
  <dc:subject/>
  <dc:title>Allotropes </dc:title>
</cp:coreProperties>
</file>